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DDC4-EE77-474A-B402-52CEC610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92CF-38A1-48D5-8694-818DF43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568B-C41F-4C31-AE8B-4746E6C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C817-FE90-4D00-956C-3AE15AAB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D08B-7AA5-4E5A-94DF-5ECADC5D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FAAD-2473-4BF8-BE4F-4E186CD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5A56-7E10-4991-B1FB-7583077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5787-D1C0-4155-AA30-C49B080A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676-5953-40B6-AABA-D512877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A790-396B-4C13-B2D9-2A69D84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A63-C116-4FFC-9619-BC21DC2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3F57-C213-47C1-A086-21DDD2DC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58B-4E26-4DAA-977C-CA2BAF5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68F-808D-4FE5-9891-E67F83A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7BC6-52F6-4C6D-B561-2CF9644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7692-DCFD-4084-8A51-F61588DA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BFF-BCFC-4AD3-871D-26A021F7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DFE2-6C0B-4BAB-8FB1-BC6F6066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0535-3B06-4536-8100-8B2E61D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1932-C182-4C78-A159-49BA48B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7375-A1B5-4712-AEAF-F728F13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DB90-728B-4AC8-82C4-F0FC9D89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B491-6623-429F-B154-85900A1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C194-3621-4BEC-897F-9A4F79D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378D-ADEC-42D3-B262-06BACC6E2A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3C13-6CF4-430A-88D9-1FB949EB89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Монополия – за или против, против, против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280" y="5410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классное мероприятие для 8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ала учитель МОБУ Лицея №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Сочи Краснодарского к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уб Ирина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Объединение Халка и Железного человека+ Стражи Глактики и Монополия(фильм. - Мои файлы - Каталог файлов - Персональный сайт"/>
          <p:cNvPicPr/>
          <p:nvPr/>
        </p:nvPicPr>
        <p:blipFill>
          <a:blip r:embed="rId1"/>
          <a:stretch/>
        </p:blipFill>
        <p:spPr>
          <a:xfrm>
            <a:off x="6019920" y="5715000"/>
            <a:ext cx="2819160" cy="907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9" descr="Курсовая работа на тему: Поведение фирмы-монополии и последствия монополизации"/>
          <p:cNvPicPr/>
          <p:nvPr/>
        </p:nvPicPr>
        <p:blipFill>
          <a:blip r:embed="rId2"/>
          <a:stretch/>
        </p:blipFill>
        <p:spPr>
          <a:xfrm>
            <a:off x="1676520" y="2438280"/>
            <a:ext cx="5181480" cy="2847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Реконструкция &quot;Горбатого моста&quot; зависит от судебных тяжб - Политика - Новости - Новости город Чайковский"/>
          <p:cNvPicPr/>
          <p:nvPr/>
        </p:nvPicPr>
        <p:blipFill>
          <a:blip r:embed="rId3"/>
          <a:stretch/>
        </p:blipFill>
        <p:spPr>
          <a:xfrm>
            <a:off x="152280" y="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ль трудился круглый год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удет кругленьки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4876920" y="472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доход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8" descr="Спасти город! &quot; Страница 4 &quot; Экономический образовательный сайт"/>
          <p:cNvPicPr/>
          <p:nvPr/>
        </p:nvPicPr>
        <p:blipFill>
          <a:blip r:embed="rId1"/>
          <a:stretch/>
        </p:blipFill>
        <p:spPr>
          <a:xfrm>
            <a:off x="457200" y="354348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Чтобы партнёров не мучили спор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ишут юристы для них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876920" y="472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договор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тоги блиц-опроса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Что такое «монополия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2438280"/>
                <a:gridCol w="1676520"/>
                <a:gridCol w="2057400"/>
                <a:gridCol w="2057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Возрастные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Опрош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% верных от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8-9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66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20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10-11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24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16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Взрослые респонден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18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11 </a:t>
                      </a:r>
                      <a:r>
                        <a:rPr b="0" lang="ru-RU" sz="20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73753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Влияние монополии на рынок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Отсутствие конкур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Высокие це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Возможное невысокое качество това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Возможное нежелание развивать и совершенствовать свой бизне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cc"/>
                </a:solidFill>
                <a:latin typeface="Arial"/>
              </a:rPr>
              <a:t>Другие предложенные вариа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ГОЛОВОЛОМ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Монопол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то абсолютное преобладание в экономике единоличного производителя или продавца про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нкуренц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соперничество нескольких субъектов в достижении схожей ц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Товар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то продукт труда, произведенный для продажи и имеющий сто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ГОЛОВОЛОМ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тимонопольное законодательст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то совокупность нормативных актов, направленных на создание, развитие и  поддержание конкурентной ср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Труд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овокупность физических и умственных способностей, которые используют люди в процессе создания материальных б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Роза-хутор – монополия или нет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другие подъемники, не изменившие цену, т.е. сохраняется конкуре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полноценных конкурентов у данного горнолыжного курорта нет, т.к. «Лаура» и «Горная карусель» не обладают подобными трассами и мощност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Узнай мен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«Она нужна вс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на поможет вам дешевле купить тов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на способствует улучшению качества товаров и усл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Она заставляет производителя применять новые техноло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5" descr="New Monopoly game to celebrate 75th anniversary - Monopoly Streets for Xbox 360 News - Virgin Media Games"/>
          <p:cNvPicPr/>
          <p:nvPr/>
        </p:nvPicPr>
        <p:blipFill>
          <a:blip r:embed="rId5"/>
          <a:stretch/>
        </p:blipFill>
        <p:spPr>
          <a:xfrm>
            <a:off x="228600" y="152280"/>
            <a:ext cx="2819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онкуренция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Конкуренция — это элемент рыночного механизма, обеспечивающий взаимодействие рыночных субъектов в производстве и сбыте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Конкуренция означает соперничество между отдельными субъектами рыночного хозяйства за наиболее выгодные условия производства и реализации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Конкуренция —  это соперничество между производителями и продавцами за внимание потреб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спользуемые прие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cc"/>
                </a:solidFill>
                <a:latin typeface="Arial"/>
              </a:rPr>
              <a:t>Рекл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cc"/>
                </a:solidFill>
                <a:latin typeface="Arial"/>
              </a:rPr>
              <a:t>Снижение це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cc"/>
                </a:solidFill>
                <a:latin typeface="Arial"/>
              </a:rPr>
              <a:t>Дополнительные варианты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Методы формирования и планирования прибыли, страница: 7 из 20 &quot;1С: Ukraine&quot;"/>
          <p:cNvPicPr/>
          <p:nvPr/>
        </p:nvPicPr>
        <p:blipFill>
          <a:blip r:embed="rId4"/>
          <a:stretch/>
        </p:blipFill>
        <p:spPr>
          <a:xfrm>
            <a:off x="4648320" y="3886200"/>
            <a:ext cx="4257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«+» конкурен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учшее удовлетворение сп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лучшение качества тов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 ц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имулирование усовершенствования 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гие варианты, предложенные групп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2"/>
          <p:cNvPicPr/>
          <p:nvPr/>
        </p:nvPicPr>
        <p:blipFill>
          <a:blip r:embed="rId6"/>
          <a:stretch/>
        </p:blipFill>
        <p:spPr>
          <a:xfrm>
            <a:off x="5257800" y="152280"/>
            <a:ext cx="36576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юди ходят на базар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Там дешевле вес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267080" y="43434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това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6" descr="Крупнейших поставщиков молочной продукции подозревают в сговоре - Первый канал"/>
          <p:cNvPicPr/>
          <p:nvPr/>
        </p:nvPicPr>
        <p:blipFill>
          <a:blip r:embed="rId1"/>
          <a:stretch/>
        </p:blipFill>
        <p:spPr>
          <a:xfrm>
            <a:off x="228600" y="3981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 товаре быть долж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бязательн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4876920" y="472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цена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Чуть оплошаешь — в тот же мо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ынок захватит весь твой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876920" y="472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конкурент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6"/>
          <p:cNvPicPr/>
          <p:nvPr/>
        </p:nvPicPr>
        <p:blipFill>
          <a:blip r:embed="rId1"/>
          <a:stretch/>
        </p:blipFill>
        <p:spPr>
          <a:xfrm>
            <a:off x="152280" y="342900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Угадай-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В море коварном товаров и ц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Бизнес-корабль ведёт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876920" y="4724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бизнесмен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6" descr="Инвестиции Intconsulting.kz"/>
          <p:cNvPicPr/>
          <p:nvPr/>
        </p:nvPicPr>
        <p:blipFill>
          <a:blip r:embed="rId1"/>
          <a:stretch/>
        </p:blipFill>
        <p:spPr>
          <a:xfrm>
            <a:off x="457200" y="3416400"/>
            <a:ext cx="3581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ход</cp:lastModifiedBy>
  <dcterms:modified xsi:type="dcterms:W3CDTF">2015-03-31T14:08:50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